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252-90F5-472F-BC4E-2C3EB92A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8EE-6657-4727-82C9-443A58B0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6A5-2F51-465D-9CB8-6AB98D35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994-0513-440E-AB2A-B8F0D50D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74C-CFDE-4494-B45C-4C728FB0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245-4884-4D51-BDC3-A5F17840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BC6-E022-4582-94D3-F9462EF3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B27-46D5-4692-9A93-F0B760BB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2F2-2501-4E63-A811-1C6F0B95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341-1793-4366-AB6C-211C737C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F52-6E70-4623-84EB-77C2527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85F-E059-4786-96E8-511A4A43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1CA11E-A88B-46FC-B4DF-C786BDBD6E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04920" y="233280"/>
            <a:ext cx="4934160" cy="639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93800" y="100080"/>
            <a:ext cx="7238880" cy="464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5029200"/>
            <a:ext cx="685800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 roamed the streets of large cities in search of money, food, and shelter.  They were exposed to crime and disease.  Many banded together to form gangs as a method of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7162560" cy="51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5560" y="5835600"/>
            <a:ext cx="84805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at duty of the Orphan Trains was to get these children ou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surroundings and into loving Christian homes in the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7480" y="276120"/>
            <a:ext cx="8134560" cy="64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en the trains pulled into town, the children w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eaned up and placed on stages in front of potenti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ents.  Many people saw these needy children 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source of cheap labor to work on their large fa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r some children they did find wonderful loving ho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ere they grew up to be successful people.  The m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o created the Children's Aid Foundation and start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Orphan Trains believed that farmers out west wou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lcome the homeless children and treat them like the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wn children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 children were not so lucky with their new hom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y found the move very painful and confusing.  Som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 the older boys ran away and others were not tre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ll by their new parents.  Many were ab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477120" cy="6324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15560" y="1542960"/>
            <a:ext cx="144396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therford County Schools</cp:lastModifiedBy>
  <dcterms:modified xsi:type="dcterms:W3CDTF">2007-04-22T18:55:48Z</dcterms:modified>
  <cp:revision>1</cp:revision>
  <dc:subject/>
  <dc:title>Slide 1</dc:title>
</cp:coreProperties>
</file>